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3E6-B600-4A4A-AC61-C10D81FB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9EA-E423-4F55-814B-DF585EB2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65A-89AA-405C-A557-65EA4D15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310-8428-44CC-A48D-C3284CAD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31C-827D-4CE2-9CC1-663BD500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BB6-CD00-416E-947A-4E6D329D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DAA-118D-4C2C-B8C5-42D44444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F87-8F82-436A-ADC6-494CA1A8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EA9-80BD-4DE6-A732-928723C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2E6-D24B-466E-B20D-CE1D15C9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9D2-ADD8-43B5-A89A-5325C17F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9C2-C993-4CC5-98BA-D58ACD9E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E30B-278F-483E-BFAA-16726ACBE596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images.elfwood.com/art/v/a/vasilis/hephaestus.jpg"/>
          <p:cNvPicPr/>
          <p:nvPr/>
        </p:nvPicPr>
        <p:blipFill>
          <a:blip r:embed="rId1"/>
          <a:stretch/>
        </p:blipFill>
        <p:spPr>
          <a:xfrm>
            <a:off x="2214720" y="0"/>
            <a:ext cx="4871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835200" y="755640"/>
            <a:ext cx="7407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ephaestus-1.jpg image by BigV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-133200" y="-225360"/>
            <a:ext cx="3181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piney.com/hera1.gif"/>
          <p:cNvPicPr/>
          <p:nvPr/>
        </p:nvPicPr>
        <p:blipFill>
          <a:blip r:embed="rId1"/>
          <a:stretch/>
        </p:blipFill>
        <p:spPr>
          <a:xfrm>
            <a:off x="2000160" y="-55440"/>
            <a:ext cx="5294520" cy="69134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-133200" y="-122400"/>
            <a:ext cx="32302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wilsonsalmanac.com/images/bacchus3.jpg"/>
          <p:cNvPicPr/>
          <p:nvPr/>
        </p:nvPicPr>
        <p:blipFill>
          <a:blip r:embed="rId1"/>
          <a:stretch/>
        </p:blipFill>
        <p:spPr>
          <a:xfrm>
            <a:off x="2714760" y="0"/>
            <a:ext cx="39607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-212760" y="-182520"/>
            <a:ext cx="3662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mlahanas.de/Greeks/Mythology/Images/HephaestusReturn.jpg"/>
          <p:cNvPicPr/>
          <p:nvPr/>
        </p:nvPicPr>
        <p:blipFill>
          <a:blip r:embed="rId1"/>
          <a:stretch/>
        </p:blipFill>
        <p:spPr>
          <a:xfrm>
            <a:off x="785880" y="0"/>
            <a:ext cx="77216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-139680" y="-189000"/>
            <a:ext cx="33098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kirkwood.k12.mo.us/parent_student/nkm/nkms_site/learning_community_pages/studentprojects/2003_2004/sem1/greekgods_max_w_8w/Images/aphrodite2.jpg"/>
          <p:cNvPicPr/>
          <p:nvPr/>
        </p:nvPicPr>
        <p:blipFill>
          <a:blip r:embed="rId1"/>
          <a:stretch/>
        </p:blipFill>
        <p:spPr>
          <a:xfrm>
            <a:off x="1357200" y="0"/>
            <a:ext cx="6391440" cy="688968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2"/>
          <a:stretch/>
        </p:blipFill>
        <p:spPr>
          <a:xfrm>
            <a:off x="-139680" y="-109440"/>
            <a:ext cx="328464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mythicjourneys.org/images/hephaestus_net_Martin_Van_Heemskerk_1536.jpg"/>
          <p:cNvPicPr/>
          <p:nvPr/>
        </p:nvPicPr>
        <p:blipFill>
          <a:blip r:embed="rId1"/>
          <a:stretch/>
        </p:blipFill>
        <p:spPr>
          <a:xfrm>
            <a:off x="1571760" y="0"/>
            <a:ext cx="6248160" cy="72867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3" descr=""/>
          <p:cNvPicPr/>
          <p:nvPr/>
        </p:nvPicPr>
        <p:blipFill>
          <a:blip r:embed="rId2"/>
          <a:stretch/>
        </p:blipFill>
        <p:spPr>
          <a:xfrm>
            <a:off x="-139680" y="-189000"/>
            <a:ext cx="2986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crystalinks.com/vulcanoart.jpg"/>
          <p:cNvPicPr/>
          <p:nvPr/>
        </p:nvPicPr>
        <p:blipFill>
          <a:blip r:embed="rId1"/>
          <a:stretch/>
        </p:blipFill>
        <p:spPr>
          <a:xfrm>
            <a:off x="2714760" y="0"/>
            <a:ext cx="3714480" cy="687384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3" descr=""/>
          <p:cNvPicPr/>
          <p:nvPr/>
        </p:nvPicPr>
        <p:blipFill>
          <a:blip r:embed="rId2"/>
          <a:stretch/>
        </p:blipFill>
        <p:spPr>
          <a:xfrm>
            <a:off x="1895400" y="487440"/>
            <a:ext cx="5383440" cy="17492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4" descr=""/>
          <p:cNvPicPr/>
          <p:nvPr/>
        </p:nvPicPr>
        <p:blipFill>
          <a:blip r:embed="rId3"/>
          <a:stretch/>
        </p:blipFill>
        <p:spPr>
          <a:xfrm>
            <a:off x="1017720" y="3713040"/>
            <a:ext cx="717552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22:07:47Z</dcterms:created>
  <dc:creator>Erich Vajda</dc:creator>
  <dc:description/>
  <dc:language>en-US</dc:language>
  <cp:lastModifiedBy>Erich Vajda</cp:lastModifiedBy>
  <dcterms:modified xsi:type="dcterms:W3CDTF">2009-09-23T15:17:05Z</dcterms:modified>
  <cp:revision>9</cp:revision>
  <dc:subject/>
  <dc:title>Slide 1</dc:title>
</cp:coreProperties>
</file>