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5E9-05B3-46C7-BB19-CB465420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9FE-544E-4119-B1A5-DB02D7E0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4B9-F8CA-4733-BBD5-C2F92D4C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14D-746F-4395-A3B7-FBA50B67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968-03A1-4A28-AC20-4F0D8F4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A71-4BF6-4E92-9341-E5B21D9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1BB-4CD9-4E45-940F-4B039DF1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A98-13A6-487B-8CB0-F702767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C0E-2817-4408-A64A-46B55510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569-7DD3-4221-891F-13C2DE2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9F6-2798-4FC1-AAF9-E740CB3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C0E-2E23-49DA-B0A2-8A9302A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E5F-4F59-43DE-B8EA-077DE9157BC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ages.elfwood.com/art/v/a/vasilis/hephaestus.jpg"/>
          <p:cNvPicPr/>
          <p:nvPr/>
        </p:nvPicPr>
        <p:blipFill>
          <a:blip r:embed="rId1"/>
          <a:stretch/>
        </p:blipFill>
        <p:spPr>
          <a:xfrm>
            <a:off x="2214720" y="0"/>
            <a:ext cx="4871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835200" y="755640"/>
            <a:ext cx="740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ephaestus-1.jpg image by BigV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-133200" y="-225360"/>
            <a:ext cx="318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iney.com/hera1.gif"/>
          <p:cNvPicPr/>
          <p:nvPr/>
        </p:nvPicPr>
        <p:blipFill>
          <a:blip r:embed="rId1"/>
          <a:stretch/>
        </p:blipFill>
        <p:spPr>
          <a:xfrm>
            <a:off x="2000160" y="-55440"/>
            <a:ext cx="5294520" cy="69134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-133200" y="-122400"/>
            <a:ext cx="32302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wilsonsalmanac.com/images/bacchus3.jpg"/>
          <p:cNvPicPr/>
          <p:nvPr/>
        </p:nvPicPr>
        <p:blipFill>
          <a:blip r:embed="rId1"/>
          <a:stretch/>
        </p:blipFill>
        <p:spPr>
          <a:xfrm>
            <a:off x="2714760" y="0"/>
            <a:ext cx="3960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-212760" y="-182520"/>
            <a:ext cx="3662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mlahanas.de/Greeks/Mythology/Images/HephaestusReturn.jpg"/>
          <p:cNvPicPr/>
          <p:nvPr/>
        </p:nvPicPr>
        <p:blipFill>
          <a:blip r:embed="rId1"/>
          <a:stretch/>
        </p:blipFill>
        <p:spPr>
          <a:xfrm>
            <a:off x="785880" y="0"/>
            <a:ext cx="772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33098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kirkwood.k12.mo.us/parent_student/nkm/nkms_site/learning_community_pages/studentprojects/2003_2004/sem1/greekgods_max_w_8w/Images/aphrodite2.jpg"/>
          <p:cNvPicPr/>
          <p:nvPr/>
        </p:nvPicPr>
        <p:blipFill>
          <a:blip r:embed="rId1"/>
          <a:stretch/>
        </p:blipFill>
        <p:spPr>
          <a:xfrm>
            <a:off x="1357200" y="0"/>
            <a:ext cx="639144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2"/>
          <a:stretch/>
        </p:blipFill>
        <p:spPr>
          <a:xfrm>
            <a:off x="-139680" y="-109440"/>
            <a:ext cx="32846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mythicjourneys.org/images/hephaestus_net_Martin_Van_Heemskerk_1536.jpg"/>
          <p:cNvPicPr/>
          <p:nvPr/>
        </p:nvPicPr>
        <p:blipFill>
          <a:blip r:embed="rId1"/>
          <a:stretch/>
        </p:blipFill>
        <p:spPr>
          <a:xfrm>
            <a:off x="1571760" y="0"/>
            <a:ext cx="6248160" cy="72867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2986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rystalinks.com/vulcanoart.jpg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687384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2"/>
          <a:stretch/>
        </p:blipFill>
        <p:spPr>
          <a:xfrm>
            <a:off x="1895400" y="487440"/>
            <a:ext cx="5383440" cy="17492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3"/>
          <a:stretch/>
        </p:blipFill>
        <p:spPr>
          <a:xfrm>
            <a:off x="1017720" y="3713040"/>
            <a:ext cx="717552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2:07:47Z</dcterms:created>
  <dc:creator>Erich Vajda</dc:creator>
  <dc:description/>
  <dc:language>en-US</dc:language>
  <cp:lastModifiedBy>Erich Vajda</cp:lastModifiedBy>
  <dcterms:modified xsi:type="dcterms:W3CDTF">2009-09-23T15:17:05Z</dcterms:modified>
  <cp:revision>9</cp:revision>
  <dc:subject/>
  <dc:title>Slide 1</dc:title>
</cp:coreProperties>
</file>