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F80-AF72-483F-870D-C8E76F12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33D-03F0-4CAC-8655-15BD79C0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2BE-CE8C-4D48-BD87-F442A9CE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A04-2F0C-4B0A-8A10-5B6BA3EE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691-3DC7-41EC-AFEA-29DE2A5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0F2-59C7-4A8E-B715-35A96F7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ABC-78CE-46D4-AED3-0524AFF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7F0-D183-476F-BCB3-E33194A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39E-0017-453D-B348-CA6D7AE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3B1-AE7D-4815-B4F4-532CF666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C66-BA10-453F-8BE2-A6E4A07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3E9-DEDB-4181-A6CB-549C821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9A5-BEF4-4E38-9B8C-F3758C07923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ages.elfwood.com/art/v/a/vasilis/hephaestus.jpg"/>
          <p:cNvPicPr/>
          <p:nvPr/>
        </p:nvPicPr>
        <p:blipFill>
          <a:blip r:embed="rId1"/>
          <a:stretch/>
        </p:blipFill>
        <p:spPr>
          <a:xfrm>
            <a:off x="2214720" y="0"/>
            <a:ext cx="4871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835200" y="755640"/>
            <a:ext cx="740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ephaestus-1.jpg image by BigV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-133200" y="-225360"/>
            <a:ext cx="318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iney.com/hera1.gif"/>
          <p:cNvPicPr/>
          <p:nvPr/>
        </p:nvPicPr>
        <p:blipFill>
          <a:blip r:embed="rId1"/>
          <a:stretch/>
        </p:blipFill>
        <p:spPr>
          <a:xfrm>
            <a:off x="2000160" y="-55440"/>
            <a:ext cx="529452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-133200" y="-122400"/>
            <a:ext cx="32302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wilsonsalmanac.com/images/bacchus3.jpg"/>
          <p:cNvPicPr/>
          <p:nvPr/>
        </p:nvPicPr>
        <p:blipFill>
          <a:blip r:embed="rId1"/>
          <a:stretch/>
        </p:blipFill>
        <p:spPr>
          <a:xfrm>
            <a:off x="2714760" y="0"/>
            <a:ext cx="39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-212760" y="-182520"/>
            <a:ext cx="366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mlahanas.de/Greeks/Mythology/Images/HephaestusReturn.jpg"/>
          <p:cNvPicPr/>
          <p:nvPr/>
        </p:nvPicPr>
        <p:blipFill>
          <a:blip r:embed="rId1"/>
          <a:stretch/>
        </p:blipFill>
        <p:spPr>
          <a:xfrm>
            <a:off x="785880" y="0"/>
            <a:ext cx="77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33098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kirkwood.k12.mo.us/parent_student/nkm/nkms_site/learning_community_pages/studentprojects/2003_2004/sem1/greekgods_max_w_8w/Images/aphrodite2.jpg"/>
          <p:cNvPicPr/>
          <p:nvPr/>
        </p:nvPicPr>
        <p:blipFill>
          <a:blip r:embed="rId1"/>
          <a:stretch/>
        </p:blipFill>
        <p:spPr>
          <a:xfrm>
            <a:off x="1357200" y="0"/>
            <a:ext cx="639144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2"/>
          <a:stretch/>
        </p:blipFill>
        <p:spPr>
          <a:xfrm>
            <a:off x="-139680" y="-109440"/>
            <a:ext cx="32846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mythicjourneys.org/images/hephaestus_net_Martin_Van_Heemskerk_1536.jpg"/>
          <p:cNvPicPr/>
          <p:nvPr/>
        </p:nvPicPr>
        <p:blipFill>
          <a:blip r:embed="rId1"/>
          <a:stretch/>
        </p:blipFill>
        <p:spPr>
          <a:xfrm>
            <a:off x="1571760" y="0"/>
            <a:ext cx="6248160" cy="72867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2986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rystalinks.com/vulcanoart.jpg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68738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1895400" y="487440"/>
            <a:ext cx="5383440" cy="1749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3"/>
          <a:stretch/>
        </p:blipFill>
        <p:spPr>
          <a:xfrm>
            <a:off x="1017720" y="3713040"/>
            <a:ext cx="717552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2:07:47Z</dcterms:created>
  <dc:creator>Erich Vajda</dc:creator>
  <dc:description/>
  <dc:language>en-US</dc:language>
  <cp:lastModifiedBy>Erich Vajda</cp:lastModifiedBy>
  <dcterms:modified xsi:type="dcterms:W3CDTF">2009-09-23T15:17:05Z</dcterms:modified>
  <cp:revision>9</cp:revision>
  <dc:subject/>
  <dc:title>Slide 1</dc:title>
</cp:coreProperties>
</file>